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9BD0-EAD1-4CD5-AFDD-6DB713A79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to Back to School Night.  My name is Mrs. Ladeby am your child’s 8th grade teach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help at home by making sure your child is reading a min. of 80 minutes a wee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currently reading The Fifth of March which deals with events that lead up to the Revolutionary War. This is a good example of how students are making connection from their English class to their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units are developed around a writing fo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using rubrics so students understand the requirements and expectations for assignmentsa and proje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6ABA-3ADD-4CAA-9C99-04B72E50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4ED-04FC-4D45-A95A-F776C3D5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BB5-3A9F-47EC-9FF7-3A0E356B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645-AF4A-4C34-8E56-1C5D25D7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C2F3-DEFB-4069-AAE4-4E7595D7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F385-812F-4BED-912A-AEA53BEB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0623-58E4-4C7B-A773-33409B1F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E999-51EC-4788-8AE6-9B1F7C1F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7861-B53C-4EF0-AC78-DBE4CC18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FC42-79A6-4FC0-98CC-5FFE3FE2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09A8-4181-4376-ADAD-31F156F2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E7A-79CD-48E6-A24A-D6CCB42C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F8E4-4B48-4C7C-BD72-01DAE0DD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5B5B-78C7-4CBB-97E9-8C4997EA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1657-DDDB-434C-9619-A8D3B818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D8FE-4718-4932-A38B-36824EF1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1705-2F90-4805-A60D-13A8D524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0B7-D9AA-4986-A54D-1000539B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745-C463-4D75-B941-B62598BC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E50-AA39-42A1-AAB9-19195391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C84-20C6-4CF0-AED2-04B71C0B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D92-91CA-46F4-BA76-ED60709E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394-872A-4952-BC5D-B07C89E0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EFF-B5FF-44D2-A129-1310BFFB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AA7E-5261-4A62-8A67-E0F2B186E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494C-C5EC-490D-B651-955348A32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samaniego@sandi.net" TargetMode="External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257800"/>
            <a:ext cx="91440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. Marco Samani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amaniego@sandi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38040"/>
            <a:ext cx="4724280" cy="804960"/>
          </a:xfrm>
          <a:prstGeom prst="rect">
            <a:avLst/>
          </a:prstGeom>
          <a:solidFill>
            <a:srgbClr val="cccc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61960"/>
            <a:ext cx="9144000" cy="16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8th G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3040" y="245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95280" y="1828800"/>
            <a:ext cx="5562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arker Felt"/>
              </a:rPr>
              <a:t>Englis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arker Felt"/>
              <a:ea typeface="Marker Felt"/>
            </a:endParaRPr>
          </a:p>
        </p:txBody>
      </p:sp>
      <p:sp>
        <p:nvSpPr>
          <p:cNvPr id="93" name=""/>
          <p:cNvSpPr/>
          <p:nvPr/>
        </p:nvSpPr>
        <p:spPr>
          <a:xfrm>
            <a:off x="7888320" y="4525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1a0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dnesday / Mo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ew word study list to lear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Reading / Writing assign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ue and assigned every Wednes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lete Class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5562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imiddleenglish8.wikispaces.com &gt; student &gt;classes/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 Progres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ase check Parent Connect to make sure your child is on tra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23440" y="57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te Work Poli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ce an assignment has been entered into Parent Connect,  students have one week to turn it in before it becomes a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day- No higher than a “B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days -no higher than a “C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t is the student’s responsibility to check his/her student connect week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utor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e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room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:40 - 3:45 p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day during lun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appoin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251784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ttend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u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sponsible for all missed work/tes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ddy conta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Middle Teacher P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5562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lease contact me if you have any questions/concer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msamaniego@sandi.n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(858) 278-5948 X40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57200" y="4495680"/>
            <a:ext cx="725400" cy="838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80880" y="2819520"/>
            <a:ext cx="838440" cy="74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ank you for coming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2895840" cy="2608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urriculum D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53337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6 weeks)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Response to Literatur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 Narrative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Sept.6 – Oct. 2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6 weeks)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ersuasiv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/ Expository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Oct. 24 – Dec. 9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 weeks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) Narrativ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roject Based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Dec. 12 – Jan. 27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5 weeks)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xpositor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/ Persuasive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Jan. 30 –March. 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 weeks)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ublic Documents/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Expositor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r. 6 – Mar. 3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4 weeks)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Poetry /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CS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sting]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Apr. 10 – May. 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5 weeks)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ne Frannk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May 8 – Jun. 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1231920" cy="1206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d Analysis and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d Orig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reek and Latin roots to make meaning of difficult vocabul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gurative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iteral and Figurative Mea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ry Response &amp;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ically or culturally significant works of lit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nalyzing recurring the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dentifying literary devices (irony and symbolis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s of poet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rrative poetry, odes, sonnet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riting Focu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sponse to Lit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search 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arr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ocuments Relating to Caree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ersua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623440" y="57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tegory /Poi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asswork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-60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5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ssays/ Projects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ric S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ests/ Quizzes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0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ing Gr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des are entered as soon as I can get to the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ice (Not Graded Yet) b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ents (Not Submitt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tudents that submit “late work” must be patient for entering of points.  Be persistent, not demandin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izz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s may be retaken only once (if student scored below 7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res are averag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no higher than a “C”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562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the Student’s responsibility to schedule a mak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nn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udents are expected to write down class work/homework each day in their plann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pot checked by student / co-teacher / teac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4T14:55:13Z</dcterms:created>
  <dc:creator>Rick Selby</dc:creator>
  <dc:description/>
  <dc:language>en-US</dc:language>
  <cp:lastModifiedBy>San Diego City Schools</cp:lastModifiedBy>
  <cp:lastPrinted>2003-09-24T17:54:21Z</cp:lastPrinted>
  <dcterms:modified xsi:type="dcterms:W3CDTF">2011-10-04T23:35:40Z</dcterms:modified>
  <cp:revision>62</cp:revision>
  <dc:subject/>
  <dc:title>No Slide Title</dc:title>
</cp:coreProperties>
</file>